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3103-E8C8-4244-BA6E-4B1FAF5B38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5B0F-6C75-4BB1-B8FB-C20578F250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A9C4-37A1-4E18-846A-2FFDF8BF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99F0-67DF-40B1-BF2E-7AB22924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C17B-8975-4DC1-9DC5-5CB6A1D80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4D4-3BD7-4C87-9C99-A73A34AE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E489-E9E8-4FBC-B406-2833F4AD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7E14-9919-4E13-96C3-7AD02426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A883-A2AD-4AAC-BFF8-7DD4A983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0B75-BB2E-4A09-82DE-A6DAD161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C15E-046E-432A-852E-FE3B9345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C5E4-785B-47C5-A29D-22CD9432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8AD5-DA37-4E39-9EA1-895FDFD6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105-94E2-4332-A2AF-1CF72930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1DFF-3D1B-476B-9B69-BCE12360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F32F-2056-433E-A8B2-796BA865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CD72-BC57-47DC-9743-F2B9884D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5EFF-76A1-46F8-AF8A-78FDC2E7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DCF0-0208-425E-B6E7-83FACE8E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F7109-DA49-4871-A8C4-60F70788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49EF9-A7EC-4B51-929C-0C902CEB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B847-50C7-4DB6-BBB3-D300C8BA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F5E7-25BB-431D-9DEA-EB1690C6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8972-02CA-47BD-8889-739A0A94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0143-A827-4623-8CBD-8568FFCC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74A36-D2FF-4CE1-B6A5-861B5A41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480F1-58DF-4243-805B-5E42A67C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5A775-63E7-44AD-9CD1-6ADA428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9E584-84F3-43BA-8C94-62052369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BFF2F-4E84-4AC9-B522-EFD85FFA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9B8E-2A8C-4044-BED0-F3A93728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FF5B-3159-4C79-B26D-931532DE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AE157-49E9-4BCE-992B-440261AE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E7B6-DA54-4A27-A83D-B19F836E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48D2-F437-4420-A3C6-06E04AF9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C50-8C10-4F49-B955-B33CF6FF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C82F-A61B-4D41-A6AE-FA5205DE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F01E0-F7CC-489C-AF68-DA5BD072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A3EE5-AA20-4EC8-9B90-734F6ABF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292C-6720-4AEE-A2CD-A3D1AF57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2573-9780-4F08-ACF0-D1F3B0E0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DEC33-725B-4557-BBFF-73EB0105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0FC6-78E6-4F23-8193-34AE460F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1BBF6-0FC8-42A8-B1C1-8D0878B9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4A23D-44C3-4524-9C8E-FD50BE99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919-6885-46BF-AD6D-6BDEED54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96A-38B4-449E-B204-8C55220D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AF5E-EC03-4B7F-BB8A-2BB9D5A8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11C-F20A-4812-A528-4CC40803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7D2-5FF2-4865-92F1-5D3F5FCD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96CE-6D10-4F0F-94BB-21BFF6F5014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2CD0-0382-4401-9161-A1D3B16267B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2C41-EE25-4A0E-BEDB-70D9EBF6865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13AE-12F0-4244-B86D-0718C8F786E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927000" y="-103320"/>
            <a:ext cx="8197920" cy="3187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0040" y="49291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FEED THE C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1" name="Picture 2" descr="C:\Documents and Settings\user\Мои документы\feed_the_cat-CT.gif"/>
          <p:cNvPicPr/>
          <p:nvPr/>
        </p:nvPicPr>
        <p:blipFill>
          <a:blip r:embed="rId1"/>
          <a:stretch/>
        </p:blipFill>
        <p:spPr>
          <a:xfrm>
            <a:off x="1928880" y="1071720"/>
            <a:ext cx="55008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GET DRESS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2" descr="C:\Documents and Settings\user\Мои документы\get_dressed-CT.gif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214720" y="1071720"/>
            <a:ext cx="49291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714920"/>
            <a:ext cx="8229600" cy="1285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WEEP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5" name="Picture 2" descr="C:\Documents and Settings\user\Мои документы\sweep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71840" y="857160"/>
            <a:ext cx="3857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5143680"/>
            <a:ext cx="8229600" cy="7142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STUDY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2" descr="C:\Documents and Settings\user\Мои документы\study-CT.gif"/>
          <p:cNvPicPr/>
          <p:nvPr/>
        </p:nvPicPr>
        <p:blipFill>
          <a:blip r:embed="rId1"/>
          <a:stretch/>
        </p:blipFill>
        <p:spPr>
          <a:xfrm>
            <a:off x="2928960" y="1143000"/>
            <a:ext cx="3500280" cy="333540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928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TAKE A B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2" descr="C:\Documents and Settings\user\Мои документы\take_a_bath-CT.gif"/>
          <p:cNvPicPr/>
          <p:nvPr/>
        </p:nvPicPr>
        <p:blipFill>
          <a:blip r:embed="rId1"/>
          <a:stretch/>
        </p:blipFill>
        <p:spPr>
          <a:xfrm>
            <a:off x="2428920" y="1500120"/>
            <a:ext cx="40719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000400"/>
            <a:ext cx="8229600" cy="1143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WASH THE DISHE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2" descr="C:\Documents and Settings\user\Мои документы\wash_the_dishes-CT.gif"/>
          <p:cNvPicPr/>
          <p:nvPr/>
        </p:nvPicPr>
        <p:blipFill>
          <a:blip r:embed="rId1"/>
          <a:stretch/>
        </p:blipFill>
        <p:spPr>
          <a:xfrm>
            <a:off x="2643120" y="1785960"/>
            <a:ext cx="33577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929120"/>
            <a:ext cx="8229600" cy="1214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LK THE DO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Picture 2" descr="C:\Documents and Settings\user\Мои документы\walk_the_dog-CT.gif"/>
          <p:cNvPicPr/>
          <p:nvPr/>
        </p:nvPicPr>
        <p:blipFill>
          <a:blip r:embed="rId1"/>
          <a:stretch/>
        </p:blipFill>
        <p:spPr>
          <a:xfrm>
            <a:off x="2500200" y="1143000"/>
            <a:ext cx="38577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42872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TCH  TV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2" descr="C:\Documents and Settings\user\Мои документы\watch_TV-CT.gif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214720" y="1000080"/>
            <a:ext cx="43574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1640"/>
            <a:ext cx="8229600" cy="1214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GO TO BED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C:\Documents and Settings\user\Мои документы\go_to_be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00200" y="1357200"/>
            <a:ext cx="40006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622440" y="5241960"/>
            <a:ext cx="8265960" cy="1689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1643040" y="785880"/>
            <a:ext cx="5786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7520" y="5215320"/>
            <a:ext cx="6572520" cy="107172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2041">
                <a:alpha val="48000"/>
              </a:srgbClr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BRUSH MY HAI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7" name="Picture 2" descr="C:\Documents and Settings\user\Мои документы\brush_my_hair-CT.gif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357280" y="1071720"/>
            <a:ext cx="4500720" cy="3571560"/>
          </a:xfrm>
          <a:prstGeom prst="rect">
            <a:avLst/>
          </a:prstGeom>
          <a:ln w="25560">
            <a:solidFill>
              <a:srgbClr val="0850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4200" y="492912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WASH MY FA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2" descr="C:\Documents and Settings\user\Мои документы\wash_my_face-CT.gif"/>
          <p:cNvPicPr/>
          <p:nvPr/>
        </p:nvPicPr>
        <p:blipFill>
          <a:blip r:embed="rId1"/>
          <a:stretch/>
        </p:blipFill>
        <p:spPr>
          <a:xfrm>
            <a:off x="2500200" y="928800"/>
            <a:ext cx="42148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695160" y="5052960"/>
            <a:ext cx="8180640" cy="1920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C:\Documents and Settings\user\Мои документы\do_homework-CT.gif"/>
          <p:cNvPicPr/>
          <p:nvPr/>
        </p:nvPicPr>
        <p:blipFill>
          <a:blip r:embed="rId2"/>
          <a:stretch/>
        </p:blipFill>
        <p:spPr>
          <a:xfrm>
            <a:off x="1428840" y="714240"/>
            <a:ext cx="6429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00360"/>
            <a:ext cx="8229600" cy="1500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O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3" descr="C:\Documents and Settings\user\Мои документы\cook-CT.gif"/>
          <p:cNvPicPr/>
          <p:nvPr/>
        </p:nvPicPr>
        <p:blipFill>
          <a:blip r:embed="rId1"/>
          <a:stretch/>
        </p:blipFill>
        <p:spPr>
          <a:xfrm>
            <a:off x="1643040" y="1143000"/>
            <a:ext cx="5214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785840"/>
            <a:ext cx="8229600" cy="1357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DRIN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user\Мои документы\drink_fluid-CT.gif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143080" y="642960"/>
            <a:ext cx="49291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786200"/>
            <a:ext cx="8229600" cy="10000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omic Sans MS"/>
              </a:rPr>
              <a:t>EAT BREAKFA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Picture 2" descr="C:\Documents and Settings\user\Мои документы\eat_breakfast-CT.gif"/>
          <p:cNvPicPr/>
          <p:nvPr/>
        </p:nvPicPr>
        <p:blipFill>
          <a:blip r:embed="rId1"/>
          <a:stretch/>
        </p:blipFill>
        <p:spPr>
          <a:xfrm>
            <a:off x="2214720" y="785880"/>
            <a:ext cx="52862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4714560"/>
            <a:ext cx="8229600" cy="1609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EXERCISE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3" descr="C:\Documents and Settings\user\Мои документы\exercise-CT.gif"/>
          <p:cNvPicPr/>
          <p:nvPr/>
        </p:nvPicPr>
        <p:blipFill>
          <a:blip r:embed="rId1"/>
          <a:stretch/>
        </p:blipFill>
        <p:spPr>
          <a:xfrm>
            <a:off x="1928880" y="78588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7:04:18Z</dcterms:created>
  <dc:creator>User</dc:creator>
  <dc:description/>
  <dc:language>en-US</dc:language>
  <cp:lastModifiedBy>Дом</cp:lastModifiedBy>
  <dcterms:modified xsi:type="dcterms:W3CDTF">2011-03-11T18:56:30Z</dcterms:modified>
  <cp:revision>16</cp:revision>
  <dc:subject/>
  <dc:title>               My day</dc:title>
</cp:coreProperties>
</file>